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6AAF-B5FB-4E02-919D-969CECC5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9CF1-EB69-4614-838E-C35BB9E6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74E6-1804-4115-AC71-208ADADD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7BB1-6570-45DB-957B-2F4CA8BE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1F9F-C5E7-47CB-88AF-8076DD6D7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B70D-16AD-4AE3-A4DE-1C3392BC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DB1A-3F43-41F1-B2D6-801B35E1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B4CC-241D-4A5F-B6EE-A5045CB5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1731-0DF7-4EF7-9576-A9E33691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B2E7-C801-4AA8-9761-1A31C86D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D8EE-F0AC-4194-93DE-6DB9E5B2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32E2-5BBA-47FC-A8CE-4C34845F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8389-3697-4BD5-9EDA-307AA787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863E-BE92-40A6-8213-63B9836B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7622-C501-4BF7-AB42-CFE0206D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CBA7-467D-4B6C-89D5-4612098F4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C81D-26FF-4784-8BAD-AE078BB9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F25A-1510-4F0B-95F1-A9876A9E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0A65-9521-4751-B169-AEBEC7C5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5286-2938-4FD2-924F-1A32F277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BA9F-6268-4B66-A0C0-135D759B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1670-A286-4CAB-9DAA-637F66A6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64A4-FD43-4280-BB63-1C515002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7796-6D90-46D5-9410-0FC9957B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houlish Fright AO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7464-B7A8-4450-8D09-FDB2C0F7ED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houlish Fright AO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F40B-2D35-448E-9AC4-5BFF7292DF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houlish Fright AOE"/>
              </a:rPr>
              <a:t>5.1: Combining Functions</a:t>
            </a: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25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houlish Fright AOE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arithmetic operations on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composition of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houlish Fright AOE"/>
              </a:rPr>
              <a:t>Sum of two functions</a:t>
            </a: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+g)(x)=f(x)+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(x)= x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houlish Fright AOE"/>
              </a:rPr>
              <a:t>Difference of two functions</a:t>
            </a: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-g)(x)=f(x)-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(x)= x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houlish Fright AOE"/>
              </a:rPr>
              <a:t>Product of two functions</a:t>
            </a: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g)(x)= f(x)*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(x)= x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houlish Fright AOE"/>
              </a:rPr>
              <a:t>Quotient of two functions</a:t>
            </a: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/g)(x)= [f(x)]/[g(x)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(x)= x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houlish Fright AOE"/>
              </a:rPr>
              <a:t>Composition of two functions</a:t>
            </a: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○ g)(x)= f(g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(x)= x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houlish Fright AOE"/>
              </a:rPr>
              <a:t>What is a one-to-one function?</a:t>
            </a: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one-to-one function f(a) cannot equal f(b) if a does not equal 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houlish Fright AOE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Ghoulish Fright AO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376 #13-36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7:00:48Z</dcterms:created>
  <dc:creator>nuhs</dc:creator>
  <dc:description/>
  <dc:language>en-US</dc:language>
  <cp:lastModifiedBy>nuhs</cp:lastModifiedBy>
  <dcterms:modified xsi:type="dcterms:W3CDTF">2008-02-25T21:36:16Z</dcterms:modified>
  <cp:revision>4</cp:revision>
  <dc:subject/>
  <dc:title>5.1 and 5.2</dc:title>
</cp:coreProperties>
</file>